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media/image12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dt" idx="2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C57D93-DB45-41CC-8178-C60926BA5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0D0EB7-DBF5-4393-BB49-00F3D358A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89C99A-304A-4DCF-8715-FFAA155E7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E9DCED-04A2-4DBD-8D8D-2C5FF3F03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46A85D-CB69-40DD-A9B5-B6316021B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19F6F4-E0DD-4E81-BD2C-F7897DD70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6E358D-48E5-432C-8130-69A6C27AD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F9E555-26EE-435E-A839-173F0A632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45EBE0-2861-480D-A50A-672A0EEDD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7805B8-B26F-4021-A1A6-1E4DC5B11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FCEED5-7C37-4D4A-ABC9-052047F7F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1A00EF-C747-4159-97BA-27916E1D4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C35FB5-1278-415F-A91F-A4BBD3304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D14E88-8E2A-4DFB-8E24-68A32A74E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F31F08-ADF6-4619-A578-F31744FC0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25E8CE-3D75-4167-A87D-D53E917E2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35FC80-5A91-4CD0-B3C2-8514AFCD8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FC48CC-1285-4B85-B14C-7DBE8BCCA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E90514-9FD0-4591-82B8-2CF8E4F05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FA65DF-9C16-409B-A6CB-546E7A23D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76813E-51F3-4D56-90D2-00DBDEB44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798005-9863-44DF-A952-52B280210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758F3B-C800-449E-B9D1-011807C8D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DCF7AD-0F02-4AE8-ABFF-2BA342796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B2C524-87DE-4FDB-AC6B-C8BAFA6BB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BBA5B8-26FF-40EE-9216-033B3879B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F966E5-3F87-4AEA-9E51-922383A6B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BB9D5D-4B84-432A-9605-29ACCECC1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86BC7-6702-463F-903A-E796D7FBCD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8B6D9-7408-4F0C-9691-CB786FD91D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F0C92-144F-4DBE-8123-EB01F4FD0E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B54BD-F602-4128-B13C-15B2CD982D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CCFED-79E7-4269-A7E1-6F2EFD817C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A5F87-5792-46F8-96A0-6953CE2824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77E9A-FCF0-4E7B-B44F-F18F681489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84B8E-EE4D-4B81-B2EB-EB9232D752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EE478-04C5-4D4B-83B9-FC9283EC6E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92F84-FE4D-4A61-A365-5B81C5706F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17528-5F38-43B9-878A-A215EC0BFD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9A903-16B4-465E-88DD-CB5BDECC77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6C1396-3455-41EC-A4BA-C13660AC76F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"/>
          <p:cNvSpPr/>
          <p:nvPr/>
        </p:nvSpPr>
        <p:spPr>
          <a:xfrm>
            <a:off x="685800" y="2438280"/>
            <a:ext cx="777240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MECHANOTHERAP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371600" y="5105520"/>
            <a:ext cx="6400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Doc.dr Igor Simani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457200" y="260280"/>
            <a:ext cx="685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ypobaric procedur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2195640" y="2133720"/>
            <a:ext cx="403848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cus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Vascula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MANUAL THERAPEUTIC TECHNIQ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685800" y="1905120"/>
            <a:ext cx="4343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manip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tr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2438280" y="4343400"/>
            <a:ext cx="541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5334120" y="426708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>
            <a:off x="5257800" y="1447920"/>
            <a:ext cx="327672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457200" y="274680"/>
            <a:ext cx="533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xtension procedures– tra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369720" y="1844640"/>
            <a:ext cx="5715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tension is a passive kinesitherapeutic proced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can increase intervertebral space for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1,5–2,5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m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den the intervertebral foramina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amina intervertebralia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block the posterior intervertebral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ophyseal) joints which are anatomically closely connected with the spinal roots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tend the ligamentous apparat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rcRect l="6576" t="4539" r="6978" b="1037"/>
          <a:stretch/>
        </p:blipFill>
        <p:spPr>
          <a:xfrm>
            <a:off x="6516720" y="0"/>
            <a:ext cx="2627280" cy="3240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2"/>
          <a:srcRect l="0" t="0" r="7143" b="0"/>
          <a:stretch/>
        </p:blipFill>
        <p:spPr>
          <a:xfrm>
            <a:off x="6443640" y="3284640"/>
            <a:ext cx="2700360" cy="33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ension can be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457200" y="220968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erman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ntinu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mittent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5 – 60 sec,  30–60 sec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uccessive–progressiv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"/>
          <p:cNvSpPr/>
          <p:nvPr/>
        </p:nvSpPr>
        <p:spPr>
          <a:xfrm>
            <a:off x="0" y="380880"/>
            <a:ext cx="868680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dications for extens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generative changes of the spine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Discus herni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 a phase of functional blockade of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degre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fasse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syndrome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drome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iliolumb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traindications for extens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Discus herni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for surgical treatment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uberculous spondyliti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umor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actur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re osteoporosi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heuerman’s disease, inguinal and scrotal hernia, severe cardiac and pulmonary diseases, pregnanc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7010280" y="243828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13716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SONOTHERAP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0" y="2286000"/>
            <a:ext cx="8458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onotherapy involves the use of sound for therapeutic purpose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coustic energy implies a form of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wave mo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 represented by longitudinal mechanic vibration of the material particle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 which in the form of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compressio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nd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rarefactio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reads through the gaseous, liquid and solid media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propagation speed depends on the frequency and wavelength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2"/>
          <p:cNvSpPr/>
          <p:nvPr/>
        </p:nvSpPr>
        <p:spPr>
          <a:xfrm>
            <a:off x="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2"/>
          <a:stretch/>
        </p:blipFill>
        <p:spPr>
          <a:xfrm>
            <a:off x="4648320" y="4495680"/>
            <a:ext cx="4495680" cy="1371600"/>
          </a:xfrm>
          <a:prstGeom prst="rect">
            <a:avLst/>
          </a:prstGeom>
          <a:ln w="0">
            <a:noFill/>
          </a:ln>
        </p:spPr>
      </p:pic>
      <p:grpSp>
        <p:nvGrpSpPr>
          <p:cNvPr id="129" name="Group 4"/>
          <p:cNvGrpSpPr/>
          <p:nvPr/>
        </p:nvGrpSpPr>
        <p:grpSpPr>
          <a:xfrm>
            <a:off x="990720" y="4724280"/>
            <a:ext cx="7083360" cy="1521000"/>
            <a:chOff x="990720" y="4724280"/>
            <a:chExt cx="7083360" cy="1521000"/>
          </a:xfrm>
        </p:grpSpPr>
        <p:sp>
          <p:nvSpPr>
            <p:cNvPr id="130" name="Text Box 5"/>
            <p:cNvSpPr/>
            <p:nvPr/>
          </p:nvSpPr>
          <p:spPr>
            <a:xfrm>
              <a:off x="2328840" y="5929200"/>
              <a:ext cx="4692600" cy="3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Line 6"/>
            <p:cNvSpPr/>
            <p:nvPr/>
          </p:nvSpPr>
          <p:spPr>
            <a:xfrm>
              <a:off x="2090880" y="4724280"/>
              <a:ext cx="519120" cy="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Line 7"/>
            <p:cNvSpPr/>
            <p:nvPr/>
          </p:nvSpPr>
          <p:spPr>
            <a:xfrm>
              <a:off x="2422440" y="5219640"/>
              <a:ext cx="0" cy="52884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Text Box 8"/>
            <p:cNvSpPr/>
            <p:nvPr/>
          </p:nvSpPr>
          <p:spPr>
            <a:xfrm>
              <a:off x="990720" y="4965840"/>
              <a:ext cx="1428480" cy="6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rection of oscillation of wave particl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Line 9"/>
            <p:cNvSpPr/>
            <p:nvPr/>
          </p:nvSpPr>
          <p:spPr>
            <a:xfrm flipV="1">
              <a:off x="1949400" y="4826160"/>
              <a:ext cx="376200" cy="1807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10"/>
            <p:cNvSpPr/>
            <p:nvPr/>
          </p:nvSpPr>
          <p:spPr>
            <a:xfrm>
              <a:off x="1901880" y="5327640"/>
              <a:ext cx="376200" cy="209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Text Box 11"/>
            <p:cNvSpPr/>
            <p:nvPr/>
          </p:nvSpPr>
          <p:spPr>
            <a:xfrm>
              <a:off x="6881760" y="4900680"/>
              <a:ext cx="1192320" cy="6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rection of wave propag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" name="Text Box 12"/>
          <p:cNvSpPr/>
          <p:nvPr/>
        </p:nvSpPr>
        <p:spPr>
          <a:xfrm>
            <a:off x="76320" y="3930480"/>
            <a:ext cx="9067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UND IS A MECHANICAL LONGITUDINAL WAVE WITH A RANGE OF FREQUENCY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 20 – 20.000 H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" name="Group 13"/>
          <p:cNvGrpSpPr/>
          <p:nvPr/>
        </p:nvGrpSpPr>
        <p:grpSpPr>
          <a:xfrm>
            <a:off x="2590920" y="1981080"/>
            <a:ext cx="3882960" cy="2206800"/>
            <a:chOff x="2590920" y="1981080"/>
            <a:chExt cx="3882960" cy="2206800"/>
          </a:xfrm>
        </p:grpSpPr>
        <p:grpSp>
          <p:nvGrpSpPr>
            <p:cNvPr id="139" name="Group 14"/>
            <p:cNvGrpSpPr/>
            <p:nvPr/>
          </p:nvGrpSpPr>
          <p:grpSpPr>
            <a:xfrm>
              <a:off x="3313080" y="2075040"/>
              <a:ext cx="2452680" cy="326880"/>
              <a:chOff x="3313080" y="2075040"/>
              <a:chExt cx="2452680" cy="326880"/>
            </a:xfrm>
          </p:grpSpPr>
          <p:grpSp>
            <p:nvGrpSpPr>
              <p:cNvPr id="140" name="Group 15"/>
              <p:cNvGrpSpPr/>
              <p:nvPr/>
            </p:nvGrpSpPr>
            <p:grpSpPr>
              <a:xfrm>
                <a:off x="4195440" y="2075040"/>
                <a:ext cx="733680" cy="321480"/>
                <a:chOff x="4195440" y="2075040"/>
                <a:chExt cx="733680" cy="321480"/>
              </a:xfrm>
            </p:grpSpPr>
            <p:grpSp>
              <p:nvGrpSpPr>
                <p:cNvPr id="141" name="Group 16"/>
                <p:cNvGrpSpPr/>
                <p:nvPr/>
              </p:nvGrpSpPr>
              <p:grpSpPr>
                <a:xfrm>
                  <a:off x="4379760" y="2075040"/>
                  <a:ext cx="363600" cy="159480"/>
                  <a:chOff x="4379760" y="2075040"/>
                  <a:chExt cx="363600" cy="159480"/>
                </a:xfrm>
              </p:grpSpPr>
              <p:sp>
                <p:nvSpPr>
                  <p:cNvPr id="142" name="Freeform 17"/>
                  <p:cNvSpPr/>
                  <p:nvPr/>
                </p:nvSpPr>
                <p:spPr>
                  <a:xfrm>
                    <a:off x="4379760" y="2075040"/>
                    <a:ext cx="181080" cy="159480"/>
                  </a:xfrm>
                  <a:custGeom>
                    <a:avLst/>
                    <a:gdLst>
                      <a:gd name="textAreaLeft" fmla="*/ 0 w 181080"/>
                      <a:gd name="textAreaRight" fmla="*/ 181440 w 181080"/>
                      <a:gd name="textAreaTop" fmla="*/ 0 h 159480"/>
                      <a:gd name="textAreaBottom" fmla="*/ 159840 h 159480"/>
                    </a:gdLst>
                    <a:ahLst/>
                    <a:rect l="textAreaLeft" t="textAreaTop" r="textAreaRight" b="textAreaBottom"/>
                    <a:pathLst>
                      <a:path w="513" h="513">
                        <a:moveTo>
                          <a:pt x="0" y="513"/>
                        </a:moveTo>
                        <a:lnTo>
                          <a:pt x="119" y="311"/>
                        </a:lnTo>
                        <a:lnTo>
                          <a:pt x="231" y="154"/>
                        </a:lnTo>
                        <a:lnTo>
                          <a:pt x="359" y="41"/>
                        </a:lnTo>
                        <a:lnTo>
                          <a:pt x="426" y="19"/>
                        </a:lnTo>
                        <a:lnTo>
                          <a:pt x="513" y="0"/>
                        </a:lnTo>
                      </a:path>
                    </a:pathLst>
                  </a:custGeom>
                  <a:noFill/>
                  <a:ln cap="sq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Freeform 18"/>
                  <p:cNvSpPr/>
                  <p:nvPr/>
                </p:nvSpPr>
                <p:spPr>
                  <a:xfrm flipH="1">
                    <a:off x="4562640" y="2075040"/>
                    <a:ext cx="180720" cy="159480"/>
                  </a:xfrm>
                  <a:custGeom>
                    <a:avLst/>
                    <a:gdLst>
                      <a:gd name="textAreaLeft" fmla="*/ 360 w 180720"/>
                      <a:gd name="textAreaRight" fmla="*/ 181440 w 180720"/>
                      <a:gd name="textAreaTop" fmla="*/ 0 h 159480"/>
                      <a:gd name="textAreaBottom" fmla="*/ 159840 h 159480"/>
                    </a:gdLst>
                    <a:ahLst/>
                    <a:rect l="textAreaLeft" t="textAreaTop" r="textAreaRight" b="textAreaBottom"/>
                    <a:pathLst>
                      <a:path w="513" h="513">
                        <a:moveTo>
                          <a:pt x="0" y="513"/>
                        </a:moveTo>
                        <a:lnTo>
                          <a:pt x="119" y="311"/>
                        </a:lnTo>
                        <a:lnTo>
                          <a:pt x="231" y="154"/>
                        </a:lnTo>
                        <a:lnTo>
                          <a:pt x="359" y="41"/>
                        </a:lnTo>
                        <a:lnTo>
                          <a:pt x="426" y="19"/>
                        </a:lnTo>
                        <a:lnTo>
                          <a:pt x="513" y="0"/>
                        </a:lnTo>
                      </a:path>
                    </a:pathLst>
                  </a:custGeom>
                  <a:noFill/>
                  <a:ln cap="sq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" name="Freeform 19"/>
                <p:cNvSpPr/>
                <p:nvPr/>
              </p:nvSpPr>
              <p:spPr>
                <a:xfrm flipV="1">
                  <a:off x="4748040" y="2236680"/>
                  <a:ext cx="181080" cy="159480"/>
                </a:xfrm>
                <a:custGeom>
                  <a:avLst/>
                  <a:gdLst>
                    <a:gd name="textAreaLeft" fmla="*/ 0 w 181080"/>
                    <a:gd name="textAreaRight" fmla="*/ 181440 w 181080"/>
                    <a:gd name="textAreaTop" fmla="*/ -360 h 159480"/>
                    <a:gd name="textAreaBottom" fmla="*/ 159480 h 15948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5" name="Group 20"/>
                <p:cNvGrpSpPr/>
                <p:nvPr/>
              </p:nvGrpSpPr>
              <p:grpSpPr>
                <a:xfrm>
                  <a:off x="4379760" y="2075040"/>
                  <a:ext cx="363600" cy="159480"/>
                  <a:chOff x="4379760" y="2075040"/>
                  <a:chExt cx="363600" cy="159480"/>
                </a:xfrm>
              </p:grpSpPr>
              <p:sp>
                <p:nvSpPr>
                  <p:cNvPr id="146" name="Freeform 21"/>
                  <p:cNvSpPr/>
                  <p:nvPr/>
                </p:nvSpPr>
                <p:spPr>
                  <a:xfrm>
                    <a:off x="4379760" y="2075040"/>
                    <a:ext cx="181080" cy="159480"/>
                  </a:xfrm>
                  <a:custGeom>
                    <a:avLst/>
                    <a:gdLst>
                      <a:gd name="textAreaLeft" fmla="*/ 0 w 181080"/>
                      <a:gd name="textAreaRight" fmla="*/ 181440 w 181080"/>
                      <a:gd name="textAreaTop" fmla="*/ 0 h 159480"/>
                      <a:gd name="textAreaBottom" fmla="*/ 159840 h 159480"/>
                    </a:gdLst>
                    <a:ahLst/>
                    <a:rect l="textAreaLeft" t="textAreaTop" r="textAreaRight" b="textAreaBottom"/>
                    <a:pathLst>
                      <a:path w="513" h="513">
                        <a:moveTo>
                          <a:pt x="0" y="513"/>
                        </a:moveTo>
                        <a:lnTo>
                          <a:pt x="119" y="311"/>
                        </a:lnTo>
                        <a:lnTo>
                          <a:pt x="231" y="154"/>
                        </a:lnTo>
                        <a:lnTo>
                          <a:pt x="359" y="41"/>
                        </a:lnTo>
                        <a:lnTo>
                          <a:pt x="426" y="19"/>
                        </a:lnTo>
                        <a:lnTo>
                          <a:pt x="513" y="0"/>
                        </a:lnTo>
                      </a:path>
                    </a:pathLst>
                  </a:custGeom>
                  <a:noFill/>
                  <a:ln cap="sq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Freeform 22"/>
                  <p:cNvSpPr/>
                  <p:nvPr/>
                </p:nvSpPr>
                <p:spPr>
                  <a:xfrm flipH="1">
                    <a:off x="4562640" y="2075040"/>
                    <a:ext cx="180720" cy="159480"/>
                  </a:xfrm>
                  <a:custGeom>
                    <a:avLst/>
                    <a:gdLst>
                      <a:gd name="textAreaLeft" fmla="*/ 360 w 180720"/>
                      <a:gd name="textAreaRight" fmla="*/ 181440 w 180720"/>
                      <a:gd name="textAreaTop" fmla="*/ 0 h 159480"/>
                      <a:gd name="textAreaBottom" fmla="*/ 159840 h 159480"/>
                    </a:gdLst>
                    <a:ahLst/>
                    <a:rect l="textAreaLeft" t="textAreaTop" r="textAreaRight" b="textAreaBottom"/>
                    <a:pathLst>
                      <a:path w="513" h="513">
                        <a:moveTo>
                          <a:pt x="0" y="513"/>
                        </a:moveTo>
                        <a:lnTo>
                          <a:pt x="119" y="311"/>
                        </a:lnTo>
                        <a:lnTo>
                          <a:pt x="231" y="154"/>
                        </a:lnTo>
                        <a:lnTo>
                          <a:pt x="359" y="41"/>
                        </a:lnTo>
                        <a:lnTo>
                          <a:pt x="426" y="19"/>
                        </a:lnTo>
                        <a:lnTo>
                          <a:pt x="513" y="0"/>
                        </a:lnTo>
                      </a:path>
                    </a:pathLst>
                  </a:custGeom>
                  <a:noFill/>
                  <a:ln cap="sq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8" name="Freeform 23"/>
                <p:cNvSpPr/>
                <p:nvPr/>
              </p:nvSpPr>
              <p:spPr>
                <a:xfrm flipV="1">
                  <a:off x="4748040" y="2236680"/>
                  <a:ext cx="181080" cy="159480"/>
                </a:xfrm>
                <a:custGeom>
                  <a:avLst/>
                  <a:gdLst>
                    <a:gd name="textAreaLeft" fmla="*/ 0 w 181080"/>
                    <a:gd name="textAreaRight" fmla="*/ 181440 w 181080"/>
                    <a:gd name="textAreaTop" fmla="*/ -360 h 159480"/>
                    <a:gd name="textAreaBottom" fmla="*/ 159480 h 15948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24"/>
                <p:cNvSpPr/>
                <p:nvPr/>
              </p:nvSpPr>
              <p:spPr>
                <a:xfrm flipH="1" flipV="1">
                  <a:off x="4195080" y="2236680"/>
                  <a:ext cx="181080" cy="159480"/>
                </a:xfrm>
                <a:custGeom>
                  <a:avLst/>
                  <a:gdLst>
                    <a:gd name="textAreaLeft" fmla="*/ -360 w 181080"/>
                    <a:gd name="textAreaRight" fmla="*/ 181080 w 181080"/>
                    <a:gd name="textAreaTop" fmla="*/ -360 h 159480"/>
                    <a:gd name="textAreaBottom" fmla="*/ 159480 h 15948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Line 25"/>
              <p:cNvSpPr/>
              <p:nvPr/>
            </p:nvSpPr>
            <p:spPr>
              <a:xfrm>
                <a:off x="3313080" y="2401920"/>
                <a:ext cx="880920" cy="0"/>
              </a:xfrm>
              <a:prstGeom prst="line">
                <a:avLst/>
              </a:prstGeom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Line 26"/>
              <p:cNvSpPr/>
              <p:nvPr/>
            </p:nvSpPr>
            <p:spPr>
              <a:xfrm>
                <a:off x="4933800" y="2401920"/>
                <a:ext cx="831960" cy="0"/>
              </a:xfrm>
              <a:prstGeom prst="line">
                <a:avLst/>
              </a:prstGeom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2" name="Text Box 27"/>
            <p:cNvSpPr/>
            <p:nvPr/>
          </p:nvSpPr>
          <p:spPr>
            <a:xfrm>
              <a:off x="2820960" y="2122560"/>
              <a:ext cx="48744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a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Text Box 28"/>
            <p:cNvSpPr/>
            <p:nvPr/>
          </p:nvSpPr>
          <p:spPr>
            <a:xfrm>
              <a:off x="2820960" y="2830680"/>
              <a:ext cx="48744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b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4" name="Group 29"/>
            <p:cNvGrpSpPr/>
            <p:nvPr/>
          </p:nvGrpSpPr>
          <p:grpSpPr>
            <a:xfrm>
              <a:off x="3490920" y="2971800"/>
              <a:ext cx="689040" cy="561960"/>
              <a:chOff x="3490920" y="2971800"/>
              <a:chExt cx="689040" cy="561960"/>
            </a:xfrm>
          </p:grpSpPr>
          <p:grpSp>
            <p:nvGrpSpPr>
              <p:cNvPr id="155" name="Group 30"/>
              <p:cNvGrpSpPr/>
              <p:nvPr/>
            </p:nvGrpSpPr>
            <p:grpSpPr>
              <a:xfrm>
                <a:off x="3490920" y="2971800"/>
                <a:ext cx="342360" cy="279360"/>
                <a:chOff x="3490920" y="2971800"/>
                <a:chExt cx="342360" cy="279360"/>
              </a:xfrm>
            </p:grpSpPr>
            <p:sp>
              <p:nvSpPr>
                <p:cNvPr id="156" name="Freeform 31"/>
                <p:cNvSpPr/>
                <p:nvPr/>
              </p:nvSpPr>
              <p:spPr>
                <a:xfrm>
                  <a:off x="3490920" y="2973240"/>
                  <a:ext cx="169920" cy="277920"/>
                </a:xfrm>
                <a:custGeom>
                  <a:avLst/>
                  <a:gdLst>
                    <a:gd name="textAreaLeft" fmla="*/ 0 w 169920"/>
                    <a:gd name="textAreaRight" fmla="*/ 170280 w 169920"/>
                    <a:gd name="textAreaTop" fmla="*/ 0 h 277920"/>
                    <a:gd name="textAreaBottom" fmla="*/ 27828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32"/>
                <p:cNvSpPr/>
                <p:nvPr/>
              </p:nvSpPr>
              <p:spPr>
                <a:xfrm flipH="1">
                  <a:off x="3663360" y="2971800"/>
                  <a:ext cx="169560" cy="277920"/>
                </a:xfrm>
                <a:custGeom>
                  <a:avLst/>
                  <a:gdLst>
                    <a:gd name="textAreaLeft" fmla="*/ -360 w 169560"/>
                    <a:gd name="textAreaRight" fmla="*/ 169560 w 169560"/>
                    <a:gd name="textAreaTop" fmla="*/ 0 h 277920"/>
                    <a:gd name="textAreaBottom" fmla="*/ 27828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Group 33"/>
              <p:cNvGrpSpPr/>
              <p:nvPr/>
            </p:nvGrpSpPr>
            <p:grpSpPr>
              <a:xfrm>
                <a:off x="3836880" y="3254400"/>
                <a:ext cx="343080" cy="279360"/>
                <a:chOff x="3836880" y="3254400"/>
                <a:chExt cx="343080" cy="279360"/>
              </a:xfrm>
            </p:grpSpPr>
            <p:sp>
              <p:nvSpPr>
                <p:cNvPr id="159" name="Freeform 34"/>
                <p:cNvSpPr/>
                <p:nvPr/>
              </p:nvSpPr>
              <p:spPr>
                <a:xfrm flipV="1">
                  <a:off x="3836880" y="3254400"/>
                  <a:ext cx="169920" cy="277920"/>
                </a:xfrm>
                <a:custGeom>
                  <a:avLst/>
                  <a:gdLst>
                    <a:gd name="textAreaLeft" fmla="*/ 0 w 169920"/>
                    <a:gd name="textAreaRight" fmla="*/ 170280 w 169920"/>
                    <a:gd name="textAreaTop" fmla="*/ 360 h 277920"/>
                    <a:gd name="textAreaBottom" fmla="*/ 27864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35"/>
                <p:cNvSpPr/>
                <p:nvPr/>
              </p:nvSpPr>
              <p:spPr>
                <a:xfrm flipH="1" flipV="1">
                  <a:off x="4010040" y="3255840"/>
                  <a:ext cx="169920" cy="277920"/>
                </a:xfrm>
                <a:custGeom>
                  <a:avLst/>
                  <a:gdLst>
                    <a:gd name="textAreaLeft" fmla="*/ 360 w 169920"/>
                    <a:gd name="textAreaRight" fmla="*/ 170640 w 169920"/>
                    <a:gd name="textAreaTop" fmla="*/ 360 h 277920"/>
                    <a:gd name="textAreaBottom" fmla="*/ 27864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1" name="Group 36"/>
              <p:cNvGrpSpPr/>
              <p:nvPr/>
            </p:nvGrpSpPr>
            <p:grpSpPr>
              <a:xfrm>
                <a:off x="3490920" y="2971800"/>
                <a:ext cx="342360" cy="279360"/>
                <a:chOff x="3490920" y="2971800"/>
                <a:chExt cx="342360" cy="279360"/>
              </a:xfrm>
            </p:grpSpPr>
            <p:sp>
              <p:nvSpPr>
                <p:cNvPr id="162" name="Freeform 37"/>
                <p:cNvSpPr/>
                <p:nvPr/>
              </p:nvSpPr>
              <p:spPr>
                <a:xfrm>
                  <a:off x="3490920" y="2973240"/>
                  <a:ext cx="169920" cy="277920"/>
                </a:xfrm>
                <a:custGeom>
                  <a:avLst/>
                  <a:gdLst>
                    <a:gd name="textAreaLeft" fmla="*/ 0 w 169920"/>
                    <a:gd name="textAreaRight" fmla="*/ 170280 w 169920"/>
                    <a:gd name="textAreaTop" fmla="*/ 0 h 277920"/>
                    <a:gd name="textAreaBottom" fmla="*/ 27828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Freeform 38"/>
                <p:cNvSpPr/>
                <p:nvPr/>
              </p:nvSpPr>
              <p:spPr>
                <a:xfrm flipH="1">
                  <a:off x="3663360" y="2971800"/>
                  <a:ext cx="169560" cy="277920"/>
                </a:xfrm>
                <a:custGeom>
                  <a:avLst/>
                  <a:gdLst>
                    <a:gd name="textAreaLeft" fmla="*/ -360 w 169560"/>
                    <a:gd name="textAreaRight" fmla="*/ 169560 w 169560"/>
                    <a:gd name="textAreaTop" fmla="*/ 0 h 277920"/>
                    <a:gd name="textAreaBottom" fmla="*/ 27828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" name="Group 39"/>
              <p:cNvGrpSpPr/>
              <p:nvPr/>
            </p:nvGrpSpPr>
            <p:grpSpPr>
              <a:xfrm>
                <a:off x="3836880" y="3254400"/>
                <a:ext cx="343080" cy="279360"/>
                <a:chOff x="3836880" y="3254400"/>
                <a:chExt cx="343080" cy="279360"/>
              </a:xfrm>
            </p:grpSpPr>
            <p:sp>
              <p:nvSpPr>
                <p:cNvPr id="165" name="Freeform 40"/>
                <p:cNvSpPr/>
                <p:nvPr/>
              </p:nvSpPr>
              <p:spPr>
                <a:xfrm flipV="1">
                  <a:off x="3836880" y="3254400"/>
                  <a:ext cx="169920" cy="277920"/>
                </a:xfrm>
                <a:custGeom>
                  <a:avLst/>
                  <a:gdLst>
                    <a:gd name="textAreaLeft" fmla="*/ 0 w 169920"/>
                    <a:gd name="textAreaRight" fmla="*/ 170280 w 169920"/>
                    <a:gd name="textAreaTop" fmla="*/ 360 h 277920"/>
                    <a:gd name="textAreaBottom" fmla="*/ 27864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6" name="Freeform 41"/>
                <p:cNvSpPr/>
                <p:nvPr/>
              </p:nvSpPr>
              <p:spPr>
                <a:xfrm flipH="1" flipV="1">
                  <a:off x="4010040" y="3255840"/>
                  <a:ext cx="169920" cy="277920"/>
                </a:xfrm>
                <a:custGeom>
                  <a:avLst/>
                  <a:gdLst>
                    <a:gd name="textAreaLeft" fmla="*/ 360 w 169920"/>
                    <a:gd name="textAreaRight" fmla="*/ 170640 w 169920"/>
                    <a:gd name="textAreaTop" fmla="*/ 360 h 277920"/>
                    <a:gd name="textAreaBottom" fmla="*/ 27864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42"/>
            <p:cNvGrpSpPr/>
            <p:nvPr/>
          </p:nvGrpSpPr>
          <p:grpSpPr>
            <a:xfrm>
              <a:off x="4184640" y="2971800"/>
              <a:ext cx="686880" cy="561960"/>
              <a:chOff x="4184640" y="2971800"/>
              <a:chExt cx="686880" cy="561960"/>
            </a:xfrm>
          </p:grpSpPr>
          <p:grpSp>
            <p:nvGrpSpPr>
              <p:cNvPr id="168" name="Group 43"/>
              <p:cNvGrpSpPr/>
              <p:nvPr/>
            </p:nvGrpSpPr>
            <p:grpSpPr>
              <a:xfrm>
                <a:off x="4184640" y="2971800"/>
                <a:ext cx="342720" cy="279360"/>
                <a:chOff x="4184640" y="2971800"/>
                <a:chExt cx="342720" cy="279360"/>
              </a:xfrm>
            </p:grpSpPr>
            <p:sp>
              <p:nvSpPr>
                <p:cNvPr id="169" name="Freeform 44"/>
                <p:cNvSpPr/>
                <p:nvPr/>
              </p:nvSpPr>
              <p:spPr>
                <a:xfrm>
                  <a:off x="4184640" y="2973240"/>
                  <a:ext cx="169920" cy="277920"/>
                </a:xfrm>
                <a:custGeom>
                  <a:avLst/>
                  <a:gdLst>
                    <a:gd name="textAreaLeft" fmla="*/ 0 w 169920"/>
                    <a:gd name="textAreaRight" fmla="*/ 170280 w 169920"/>
                    <a:gd name="textAreaTop" fmla="*/ 0 h 277920"/>
                    <a:gd name="textAreaBottom" fmla="*/ 27828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45"/>
                <p:cNvSpPr/>
                <p:nvPr/>
              </p:nvSpPr>
              <p:spPr>
                <a:xfrm flipH="1">
                  <a:off x="4355280" y="2971800"/>
                  <a:ext cx="171720" cy="277920"/>
                </a:xfrm>
                <a:custGeom>
                  <a:avLst/>
                  <a:gdLst>
                    <a:gd name="textAreaLeft" fmla="*/ -360 w 171720"/>
                    <a:gd name="textAreaRight" fmla="*/ 171720 w 171720"/>
                    <a:gd name="textAreaTop" fmla="*/ 0 h 277920"/>
                    <a:gd name="textAreaBottom" fmla="*/ 27828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" name="Group 46"/>
              <p:cNvGrpSpPr/>
              <p:nvPr/>
            </p:nvGrpSpPr>
            <p:grpSpPr>
              <a:xfrm>
                <a:off x="4529160" y="3254400"/>
                <a:ext cx="342360" cy="279360"/>
                <a:chOff x="4529160" y="3254400"/>
                <a:chExt cx="342360" cy="279360"/>
              </a:xfrm>
            </p:grpSpPr>
            <p:sp>
              <p:nvSpPr>
                <p:cNvPr id="172" name="Freeform 47"/>
                <p:cNvSpPr/>
                <p:nvPr/>
              </p:nvSpPr>
              <p:spPr>
                <a:xfrm flipV="1">
                  <a:off x="4529160" y="3254400"/>
                  <a:ext cx="169920" cy="277920"/>
                </a:xfrm>
                <a:custGeom>
                  <a:avLst/>
                  <a:gdLst>
                    <a:gd name="textAreaLeft" fmla="*/ 0 w 169920"/>
                    <a:gd name="textAreaRight" fmla="*/ 170280 w 169920"/>
                    <a:gd name="textAreaTop" fmla="*/ 360 h 277920"/>
                    <a:gd name="textAreaBottom" fmla="*/ 27864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Freeform 48"/>
                <p:cNvSpPr/>
                <p:nvPr/>
              </p:nvSpPr>
              <p:spPr>
                <a:xfrm flipH="1" flipV="1">
                  <a:off x="4701600" y="3255840"/>
                  <a:ext cx="169560" cy="277920"/>
                </a:xfrm>
                <a:custGeom>
                  <a:avLst/>
                  <a:gdLst>
                    <a:gd name="textAreaLeft" fmla="*/ -360 w 169560"/>
                    <a:gd name="textAreaRight" fmla="*/ 169560 w 169560"/>
                    <a:gd name="textAreaTop" fmla="*/ 360 h 277920"/>
                    <a:gd name="textAreaBottom" fmla="*/ 27864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" name="Group 49"/>
              <p:cNvGrpSpPr/>
              <p:nvPr/>
            </p:nvGrpSpPr>
            <p:grpSpPr>
              <a:xfrm>
                <a:off x="4184640" y="2971800"/>
                <a:ext cx="342720" cy="279360"/>
                <a:chOff x="4184640" y="2971800"/>
                <a:chExt cx="342720" cy="279360"/>
              </a:xfrm>
            </p:grpSpPr>
            <p:sp>
              <p:nvSpPr>
                <p:cNvPr id="175" name="Freeform 50"/>
                <p:cNvSpPr/>
                <p:nvPr/>
              </p:nvSpPr>
              <p:spPr>
                <a:xfrm>
                  <a:off x="4184640" y="2973240"/>
                  <a:ext cx="169920" cy="277920"/>
                </a:xfrm>
                <a:custGeom>
                  <a:avLst/>
                  <a:gdLst>
                    <a:gd name="textAreaLeft" fmla="*/ 0 w 169920"/>
                    <a:gd name="textAreaRight" fmla="*/ 170280 w 169920"/>
                    <a:gd name="textAreaTop" fmla="*/ 0 h 277920"/>
                    <a:gd name="textAreaBottom" fmla="*/ 27828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6" name="Freeform 51"/>
                <p:cNvSpPr/>
                <p:nvPr/>
              </p:nvSpPr>
              <p:spPr>
                <a:xfrm flipH="1">
                  <a:off x="4355280" y="2971800"/>
                  <a:ext cx="171720" cy="277920"/>
                </a:xfrm>
                <a:custGeom>
                  <a:avLst/>
                  <a:gdLst>
                    <a:gd name="textAreaLeft" fmla="*/ -360 w 171720"/>
                    <a:gd name="textAreaRight" fmla="*/ 171720 w 171720"/>
                    <a:gd name="textAreaTop" fmla="*/ 0 h 277920"/>
                    <a:gd name="textAreaBottom" fmla="*/ 27828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52"/>
              <p:cNvGrpSpPr/>
              <p:nvPr/>
            </p:nvGrpSpPr>
            <p:grpSpPr>
              <a:xfrm>
                <a:off x="4529160" y="3254400"/>
                <a:ext cx="342360" cy="279360"/>
                <a:chOff x="4529160" y="3254400"/>
                <a:chExt cx="342360" cy="279360"/>
              </a:xfrm>
            </p:grpSpPr>
            <p:sp>
              <p:nvSpPr>
                <p:cNvPr id="178" name="Freeform 53"/>
                <p:cNvSpPr/>
                <p:nvPr/>
              </p:nvSpPr>
              <p:spPr>
                <a:xfrm flipV="1">
                  <a:off x="4529160" y="3254400"/>
                  <a:ext cx="169920" cy="277920"/>
                </a:xfrm>
                <a:custGeom>
                  <a:avLst/>
                  <a:gdLst>
                    <a:gd name="textAreaLeft" fmla="*/ 0 w 169920"/>
                    <a:gd name="textAreaRight" fmla="*/ 170280 w 169920"/>
                    <a:gd name="textAreaTop" fmla="*/ 360 h 277920"/>
                    <a:gd name="textAreaBottom" fmla="*/ 27864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54"/>
                <p:cNvSpPr/>
                <p:nvPr/>
              </p:nvSpPr>
              <p:spPr>
                <a:xfrm flipH="1" flipV="1">
                  <a:off x="4701600" y="3255840"/>
                  <a:ext cx="169560" cy="277920"/>
                </a:xfrm>
                <a:custGeom>
                  <a:avLst/>
                  <a:gdLst>
                    <a:gd name="textAreaLeft" fmla="*/ -360 w 169560"/>
                    <a:gd name="textAreaRight" fmla="*/ 169560 w 169560"/>
                    <a:gd name="textAreaTop" fmla="*/ 360 h 277920"/>
                    <a:gd name="textAreaBottom" fmla="*/ 27864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0" name="Group 55"/>
            <p:cNvGrpSpPr/>
            <p:nvPr/>
          </p:nvGrpSpPr>
          <p:grpSpPr>
            <a:xfrm>
              <a:off x="4875120" y="2971800"/>
              <a:ext cx="687600" cy="561960"/>
              <a:chOff x="4875120" y="2971800"/>
              <a:chExt cx="687600" cy="561960"/>
            </a:xfrm>
          </p:grpSpPr>
          <p:grpSp>
            <p:nvGrpSpPr>
              <p:cNvPr id="181" name="Group 56"/>
              <p:cNvGrpSpPr/>
              <p:nvPr/>
            </p:nvGrpSpPr>
            <p:grpSpPr>
              <a:xfrm>
                <a:off x="4875120" y="2971800"/>
                <a:ext cx="340920" cy="279360"/>
                <a:chOff x="4875120" y="2971800"/>
                <a:chExt cx="340920" cy="279360"/>
              </a:xfrm>
            </p:grpSpPr>
            <p:sp>
              <p:nvSpPr>
                <p:cNvPr id="182" name="Freeform 57"/>
                <p:cNvSpPr/>
                <p:nvPr/>
              </p:nvSpPr>
              <p:spPr>
                <a:xfrm>
                  <a:off x="4875120" y="2973240"/>
                  <a:ext cx="169920" cy="277920"/>
                </a:xfrm>
                <a:custGeom>
                  <a:avLst/>
                  <a:gdLst>
                    <a:gd name="textAreaLeft" fmla="*/ 0 w 169920"/>
                    <a:gd name="textAreaRight" fmla="*/ 170280 w 169920"/>
                    <a:gd name="textAreaTop" fmla="*/ 0 h 277920"/>
                    <a:gd name="textAreaBottom" fmla="*/ 27828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Freeform 58"/>
                <p:cNvSpPr/>
                <p:nvPr/>
              </p:nvSpPr>
              <p:spPr>
                <a:xfrm flipH="1">
                  <a:off x="5047560" y="2971800"/>
                  <a:ext cx="168120" cy="277920"/>
                </a:xfrm>
                <a:custGeom>
                  <a:avLst/>
                  <a:gdLst>
                    <a:gd name="textAreaLeft" fmla="*/ -360 w 168120"/>
                    <a:gd name="textAreaRight" fmla="*/ 168120 w 168120"/>
                    <a:gd name="textAreaTop" fmla="*/ 0 h 277920"/>
                    <a:gd name="textAreaBottom" fmla="*/ 27828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4" name="Group 59"/>
              <p:cNvGrpSpPr/>
              <p:nvPr/>
            </p:nvGrpSpPr>
            <p:grpSpPr>
              <a:xfrm>
                <a:off x="5221440" y="3254400"/>
                <a:ext cx="341280" cy="279360"/>
                <a:chOff x="5221440" y="3254400"/>
                <a:chExt cx="341280" cy="279360"/>
              </a:xfrm>
            </p:grpSpPr>
            <p:sp>
              <p:nvSpPr>
                <p:cNvPr id="185" name="Freeform 60"/>
                <p:cNvSpPr/>
                <p:nvPr/>
              </p:nvSpPr>
              <p:spPr>
                <a:xfrm flipV="1">
                  <a:off x="5221440" y="3254400"/>
                  <a:ext cx="169560" cy="277920"/>
                </a:xfrm>
                <a:custGeom>
                  <a:avLst/>
                  <a:gdLst>
                    <a:gd name="textAreaLeft" fmla="*/ 0 w 169560"/>
                    <a:gd name="textAreaRight" fmla="*/ 169920 w 169560"/>
                    <a:gd name="textAreaTop" fmla="*/ 360 h 277920"/>
                    <a:gd name="textAreaBottom" fmla="*/ 27864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" name="Freeform 61"/>
                <p:cNvSpPr/>
                <p:nvPr/>
              </p:nvSpPr>
              <p:spPr>
                <a:xfrm flipH="1" flipV="1">
                  <a:off x="5392800" y="3255840"/>
                  <a:ext cx="169920" cy="277920"/>
                </a:xfrm>
                <a:custGeom>
                  <a:avLst/>
                  <a:gdLst>
                    <a:gd name="textAreaLeft" fmla="*/ 360 w 169920"/>
                    <a:gd name="textAreaRight" fmla="*/ 170640 w 169920"/>
                    <a:gd name="textAreaTop" fmla="*/ 360 h 277920"/>
                    <a:gd name="textAreaBottom" fmla="*/ 27864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" name="Group 62"/>
              <p:cNvGrpSpPr/>
              <p:nvPr/>
            </p:nvGrpSpPr>
            <p:grpSpPr>
              <a:xfrm>
                <a:off x="4875120" y="2971800"/>
                <a:ext cx="340920" cy="279360"/>
                <a:chOff x="4875120" y="2971800"/>
                <a:chExt cx="340920" cy="279360"/>
              </a:xfrm>
            </p:grpSpPr>
            <p:sp>
              <p:nvSpPr>
                <p:cNvPr id="188" name="Freeform 63"/>
                <p:cNvSpPr/>
                <p:nvPr/>
              </p:nvSpPr>
              <p:spPr>
                <a:xfrm>
                  <a:off x="4875120" y="2973240"/>
                  <a:ext cx="169920" cy="277920"/>
                </a:xfrm>
                <a:custGeom>
                  <a:avLst/>
                  <a:gdLst>
                    <a:gd name="textAreaLeft" fmla="*/ 0 w 169920"/>
                    <a:gd name="textAreaRight" fmla="*/ 170280 w 169920"/>
                    <a:gd name="textAreaTop" fmla="*/ 0 h 277920"/>
                    <a:gd name="textAreaBottom" fmla="*/ 27828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" name="Freeform 64"/>
                <p:cNvSpPr/>
                <p:nvPr/>
              </p:nvSpPr>
              <p:spPr>
                <a:xfrm flipH="1">
                  <a:off x="5047560" y="2971800"/>
                  <a:ext cx="168120" cy="277920"/>
                </a:xfrm>
                <a:custGeom>
                  <a:avLst/>
                  <a:gdLst>
                    <a:gd name="textAreaLeft" fmla="*/ -360 w 168120"/>
                    <a:gd name="textAreaRight" fmla="*/ 168120 w 168120"/>
                    <a:gd name="textAreaTop" fmla="*/ 0 h 277920"/>
                    <a:gd name="textAreaBottom" fmla="*/ 27828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" name="Group 65"/>
              <p:cNvGrpSpPr/>
              <p:nvPr/>
            </p:nvGrpSpPr>
            <p:grpSpPr>
              <a:xfrm>
                <a:off x="5221440" y="3254400"/>
                <a:ext cx="341280" cy="279360"/>
                <a:chOff x="5221440" y="3254400"/>
                <a:chExt cx="341280" cy="279360"/>
              </a:xfrm>
            </p:grpSpPr>
            <p:sp>
              <p:nvSpPr>
                <p:cNvPr id="191" name="Freeform 66"/>
                <p:cNvSpPr/>
                <p:nvPr/>
              </p:nvSpPr>
              <p:spPr>
                <a:xfrm flipV="1">
                  <a:off x="5221440" y="3254400"/>
                  <a:ext cx="169560" cy="277920"/>
                </a:xfrm>
                <a:custGeom>
                  <a:avLst/>
                  <a:gdLst>
                    <a:gd name="textAreaLeft" fmla="*/ 0 w 169560"/>
                    <a:gd name="textAreaRight" fmla="*/ 169920 w 169560"/>
                    <a:gd name="textAreaTop" fmla="*/ 360 h 277920"/>
                    <a:gd name="textAreaBottom" fmla="*/ 27864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2" name="Freeform 67"/>
                <p:cNvSpPr/>
                <p:nvPr/>
              </p:nvSpPr>
              <p:spPr>
                <a:xfrm flipH="1" flipV="1">
                  <a:off x="5392800" y="3255840"/>
                  <a:ext cx="169920" cy="277920"/>
                </a:xfrm>
                <a:custGeom>
                  <a:avLst/>
                  <a:gdLst>
                    <a:gd name="textAreaLeft" fmla="*/ 360 w 169920"/>
                    <a:gd name="textAreaRight" fmla="*/ 170640 w 169920"/>
                    <a:gd name="textAreaTop" fmla="*/ 360 h 277920"/>
                    <a:gd name="textAreaBottom" fmla="*/ 27864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3" name="Text Box 68"/>
            <p:cNvSpPr/>
            <p:nvPr/>
          </p:nvSpPr>
          <p:spPr>
            <a:xfrm>
              <a:off x="4027320" y="3349800"/>
              <a:ext cx="57816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cc00"/>
                  </a:solidFill>
                  <a:latin typeface="Arial"/>
                </a:rPr>
                <a:t>t=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Line 69"/>
            <p:cNvSpPr/>
            <p:nvPr/>
          </p:nvSpPr>
          <p:spPr>
            <a:xfrm>
              <a:off x="3313080" y="3255840"/>
              <a:ext cx="24526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Line 70"/>
            <p:cNvSpPr/>
            <p:nvPr/>
          </p:nvSpPr>
          <p:spPr>
            <a:xfrm>
              <a:off x="3490920" y="2782800"/>
              <a:ext cx="0" cy="9892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Text Box 71"/>
            <p:cNvSpPr/>
            <p:nvPr/>
          </p:nvSpPr>
          <p:spPr>
            <a:xfrm>
              <a:off x="3044880" y="3303720"/>
              <a:ext cx="5778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cc00"/>
                  </a:solidFill>
                  <a:latin typeface="Arial"/>
                </a:rPr>
                <a:t>t=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Line 72"/>
            <p:cNvSpPr/>
            <p:nvPr/>
          </p:nvSpPr>
          <p:spPr>
            <a:xfrm flipV="1">
              <a:off x="3313080" y="3252600"/>
              <a:ext cx="174600" cy="1443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Line 73"/>
            <p:cNvSpPr/>
            <p:nvPr/>
          </p:nvSpPr>
          <p:spPr>
            <a:xfrm flipH="1" flipV="1">
              <a:off x="4202280" y="3252600"/>
              <a:ext cx="47520" cy="1918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Line 74"/>
            <p:cNvSpPr/>
            <p:nvPr/>
          </p:nvSpPr>
          <p:spPr>
            <a:xfrm>
              <a:off x="3670200" y="2782800"/>
              <a:ext cx="0" cy="1857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Line 75"/>
            <p:cNvSpPr/>
            <p:nvPr/>
          </p:nvSpPr>
          <p:spPr>
            <a:xfrm>
              <a:off x="4340160" y="2782800"/>
              <a:ext cx="0" cy="1857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Line 76"/>
            <p:cNvSpPr/>
            <p:nvPr/>
          </p:nvSpPr>
          <p:spPr>
            <a:xfrm>
              <a:off x="3670200" y="2878200"/>
              <a:ext cx="2206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77"/>
            <p:cNvSpPr/>
            <p:nvPr/>
          </p:nvSpPr>
          <p:spPr>
            <a:xfrm>
              <a:off x="4116240" y="2878200"/>
              <a:ext cx="2206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Text Box 78"/>
            <p:cNvSpPr/>
            <p:nvPr/>
          </p:nvSpPr>
          <p:spPr>
            <a:xfrm>
              <a:off x="3848040" y="2689200"/>
              <a:ext cx="4428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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Text Box 79"/>
            <p:cNvSpPr/>
            <p:nvPr/>
          </p:nvSpPr>
          <p:spPr>
            <a:xfrm>
              <a:off x="5099040" y="2641680"/>
              <a:ext cx="8460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v =</a:t>
              </a:r>
              <a:r>
                <a:rPr b="1" lang="en-US" sz="14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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Line 80"/>
            <p:cNvSpPr/>
            <p:nvPr/>
          </p:nvSpPr>
          <p:spPr>
            <a:xfrm>
              <a:off x="4741920" y="2830680"/>
              <a:ext cx="442800" cy="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Text Box 81"/>
            <p:cNvSpPr/>
            <p:nvPr/>
          </p:nvSpPr>
          <p:spPr>
            <a:xfrm>
              <a:off x="5724360" y="3067200"/>
              <a:ext cx="48744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cc00"/>
                  </a:solidFill>
                  <a:latin typeface="Arial"/>
                </a:rPr>
                <a:t>x, 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Text Box 82"/>
            <p:cNvSpPr/>
            <p:nvPr/>
          </p:nvSpPr>
          <p:spPr>
            <a:xfrm>
              <a:off x="3222720" y="2595600"/>
              <a:ext cx="48744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cc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Text Box 83"/>
            <p:cNvSpPr/>
            <p:nvPr/>
          </p:nvSpPr>
          <p:spPr>
            <a:xfrm>
              <a:off x="2590920" y="3765600"/>
              <a:ext cx="388296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Line 84"/>
            <p:cNvSpPr/>
            <p:nvPr/>
          </p:nvSpPr>
          <p:spPr>
            <a:xfrm>
              <a:off x="4921200" y="2170080"/>
              <a:ext cx="442800" cy="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Text Box 85"/>
            <p:cNvSpPr/>
            <p:nvPr/>
          </p:nvSpPr>
          <p:spPr>
            <a:xfrm>
              <a:off x="5322960" y="1981080"/>
              <a:ext cx="4428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v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1" name="Text Box 86"/>
          <p:cNvSpPr/>
          <p:nvPr/>
        </p:nvSpPr>
        <p:spPr>
          <a:xfrm>
            <a:off x="990720" y="1371600"/>
            <a:ext cx="716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MECHANICAL WAVES</a:t>
            </a:r>
            <a:r>
              <a:rPr b="1" lang="sr-Latn-CS" sz="1600" spc="-1" strike="noStrike">
                <a:solidFill>
                  <a:srgbClr val="000000"/>
                </a:solidFill>
                <a:latin typeface="Arial Black"/>
              </a:rPr>
              <a:t>– </a:t>
            </a: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BASIC CHARACTERISTIC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1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SOUND AND ULTRAS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19080" y="1771560"/>
            <a:ext cx="236232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ltras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2247840" y="1447920"/>
            <a:ext cx="29718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20-20.000 H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20.000 Hz – 10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9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H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4876920" y="1447920"/>
            <a:ext cx="4267080" cy="29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ns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2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W/m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10 W/m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agnostic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 - 40 W/m</a:t>
            </a:r>
            <a:r>
              <a:rPr b="1" lang="sl-SI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apeut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1.000 W/m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mary effect of ultrasound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2438280" y="1752480"/>
            <a:ext cx="5943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chanical ef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mal ef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ysical-chemical ef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uroreflexive ef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1"/>
          <p:cNvSpPr/>
          <p:nvPr/>
        </p:nvSpPr>
        <p:spPr>
          <a:xfrm>
            <a:off x="685800" y="38088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condary effects of ultrasou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1066680" y="2286000"/>
            <a:ext cx="7315200" cy="4267080"/>
          </a:xfrm>
          <a:prstGeom prst="rect">
            <a:avLst/>
          </a:prstGeom>
          <a:noFill/>
          <a:ln cap="sq" w="763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alges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asmolyth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ti-inflamma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mpaticolyth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provement of microcirculation, muscle mass and tissue regen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ybrinoly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ECHANOTHERAP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914400" y="1905120"/>
            <a:ext cx="74674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ual mas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cial forms of mas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aratus mas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pobaric proced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ual therapeutic techniques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ipulation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ension procedures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ction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notherapy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ra and ultrasound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de-effects of sonotherap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2556000" y="2349360"/>
            <a:ext cx="487656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vitation phenomenon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maller doses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ltrasound devi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2"/>
          <p:cNvSpPr/>
          <p:nvPr/>
        </p:nvSpPr>
        <p:spPr>
          <a:xfrm>
            <a:off x="2627280" y="1600200"/>
            <a:ext cx="4033800" cy="4525920"/>
          </a:xfrm>
          <a:prstGeom prst="rect">
            <a:avLst/>
          </a:prstGeom>
          <a:noFill/>
          <a:ln cap="sq" w="763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hods of acquiring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chan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gnetostric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ctromecha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hodics of the ultrasound 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2"/>
          <p:cNvSpPr/>
          <p:nvPr/>
        </p:nvSpPr>
        <p:spPr>
          <a:xfrm>
            <a:off x="2193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b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465300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aqu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Sonophores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2"/>
          <p:cNvSpPr/>
          <p:nvPr/>
        </p:nvSpPr>
        <p:spPr>
          <a:xfrm>
            <a:off x="228600" y="1828800"/>
            <a:ext cx="87631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topical drug is usually in a form of ointment or cream and most often the following drugs are used: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omucasae, hylase, hidrocortison, antirheumatic ointments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..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eatment is performed using a labile method, and a medical cream or ointment s used as a contact medi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osing of sonotherap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6600" indent="-606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mount of the received dose depends 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530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Intensity(W/cm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530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Surface on which it is applied (cm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530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Duration of application (min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530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Number of day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5302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rance YU"/>
                <a:ea typeface="Times New Roman"/>
              </a:rPr>
              <a:t>Indications for sonotherap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2"/>
          <p:cNvSpPr/>
          <p:nvPr/>
        </p:nvSpPr>
        <p:spPr>
          <a:xfrm>
            <a:off x="68580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Keloids and sca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Dupuytre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contract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rthrosis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, RA, Mb Bechter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endovaginitis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, PAHS,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pycondylitis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tractur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sttraumatic conditions and their complica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euralgia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usalgia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ccigodini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one crushing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, Mb Meniere,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ypophyseal surgeries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1"/>
          <p:cNvSpPr/>
          <p:nvPr/>
        </p:nvSpPr>
        <p:spPr>
          <a:xfrm>
            <a:off x="685800" y="38088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rance YU"/>
                <a:ea typeface="Times New Roman"/>
              </a:rPr>
              <a:t>Contraindications for sonothera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2"/>
          <p:cNvSpPr/>
          <p:nvPr/>
        </p:nvSpPr>
        <p:spPr>
          <a:xfrm>
            <a:off x="525600" y="1844640"/>
            <a:ext cx="822960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France YU"/>
                <a:ea typeface="Times New Roman"/>
              </a:rPr>
              <a:t>It is not used</a:t>
            </a:r>
            <a:r>
              <a:rPr b="1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in the area of the head </a:t>
            </a:r>
            <a:r>
              <a:rPr b="1" lang="sr-Latn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along the hairline</a:t>
            </a:r>
            <a:r>
              <a:rPr b="1" lang="sr-Latn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)</a:t>
            </a:r>
            <a:r>
              <a:rPr b="1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, </a:t>
            </a:r>
            <a:r>
              <a:rPr b="1" lang="sr-Latn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medulae</a:t>
            </a:r>
            <a:r>
              <a:rPr b="1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spinalis</a:t>
            </a:r>
            <a:r>
              <a:rPr b="1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gravid uterus and in children’s age</a:t>
            </a:r>
            <a:r>
              <a:rPr b="1" lang="sr-Latn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growth zones</a:t>
            </a:r>
            <a:r>
              <a:rPr b="1" lang="sr-Latn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Presence of metal in the field </a:t>
            </a:r>
            <a:r>
              <a:rPr b="1" lang="en-US" sz="2800" spc="-1" strike="noStrike">
                <a:solidFill>
                  <a:srgbClr val="c0504d"/>
                </a:solidFill>
                <a:latin typeface="France YU"/>
                <a:ea typeface="Times New Roman"/>
              </a:rPr>
              <a:t>is not a contraind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raindications for sonotherap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1403280" y="1557360"/>
            <a:ext cx="70675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brile cond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ombophleb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leeding and bleeding tend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steopor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ute infectious dise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uberculosis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ronchiecta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ligna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ompensation of vital organs.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5000" spc="-1" strike="noStrike" u="sng">
                <a:solidFill>
                  <a:srgbClr val="000000"/>
                </a:solidFill>
                <a:uFillTx/>
                <a:latin typeface="Calibri"/>
              </a:rPr>
              <a:t>MANUAL MASSAG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0" y="2057400"/>
            <a:ext cx="41148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apeutic massag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orts mas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ygienic mas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5877000" y="2919240"/>
            <a:ext cx="1581120" cy="1886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3886200" y="1981080"/>
            <a:ext cx="5257800" cy="394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echniques of classic manual massa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2"/>
          <p:cNvSpPr/>
          <p:nvPr/>
        </p:nvSpPr>
        <p:spPr>
          <a:xfrm>
            <a:off x="457200" y="2209680"/>
            <a:ext cx="822960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6600" indent="-60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FFLEU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I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TRIS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POTMENT or PERC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B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ffects of various forms of massage according to 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Re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Group 2"/>
          <p:cNvGrpSpPr/>
          <p:nvPr/>
        </p:nvGrpSpPr>
        <p:grpSpPr>
          <a:xfrm>
            <a:off x="457200" y="1600200"/>
            <a:ext cx="8226360" cy="4989600"/>
            <a:chOff x="457200" y="1600200"/>
            <a:chExt cx="8226360" cy="4989600"/>
          </a:xfrm>
        </p:grpSpPr>
        <p:sp>
          <p:nvSpPr>
            <p:cNvPr id="63" name="Rectangle 3"/>
            <p:cNvSpPr/>
            <p:nvPr/>
          </p:nvSpPr>
          <p:spPr>
            <a:xfrm>
              <a:off x="457200" y="1600200"/>
              <a:ext cx="1901160" cy="80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ffec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4"/>
            <p:cNvSpPr/>
            <p:nvPr/>
          </p:nvSpPr>
          <p:spPr>
            <a:xfrm>
              <a:off x="2361600" y="1600200"/>
              <a:ext cx="1449000" cy="80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ssage strok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5"/>
            <p:cNvSpPr/>
            <p:nvPr/>
          </p:nvSpPr>
          <p:spPr>
            <a:xfrm>
              <a:off x="3813840" y="1600200"/>
              <a:ext cx="1896120" cy="80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issues that are affecte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6"/>
            <p:cNvSpPr/>
            <p:nvPr/>
          </p:nvSpPr>
          <p:spPr>
            <a:xfrm>
              <a:off x="5712120" y="1600200"/>
              <a:ext cx="2967840" cy="80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fluen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7"/>
            <p:cNvSpPr/>
            <p:nvPr/>
          </p:nvSpPr>
          <p:spPr>
            <a:xfrm>
              <a:off x="457200" y="2404800"/>
              <a:ext cx="1901160" cy="15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dati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8"/>
            <p:cNvSpPr/>
            <p:nvPr/>
          </p:nvSpPr>
          <p:spPr>
            <a:xfrm>
              <a:off x="2361600" y="2404800"/>
              <a:ext cx="1449000" cy="63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ffleurag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9"/>
            <p:cNvSpPr/>
            <p:nvPr/>
          </p:nvSpPr>
          <p:spPr>
            <a:xfrm>
              <a:off x="3813840" y="2404800"/>
              <a:ext cx="1896120" cy="63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Површина кож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10"/>
            <p:cNvSpPr/>
            <p:nvPr/>
          </p:nvSpPr>
          <p:spPr>
            <a:xfrm>
              <a:off x="5712120" y="2404800"/>
              <a:ext cx="2967840" cy="63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rough the nerve ending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1"/>
            <p:cNvSpPr/>
            <p:nvPr/>
          </p:nvSpPr>
          <p:spPr>
            <a:xfrm>
              <a:off x="2361600" y="3044160"/>
              <a:ext cx="1449000" cy="91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uperficial fric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Rectangle 12"/>
            <p:cNvSpPr/>
            <p:nvPr/>
          </p:nvSpPr>
          <p:spPr>
            <a:xfrm>
              <a:off x="3813840" y="3044160"/>
              <a:ext cx="1896120" cy="91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kin and subcutaneous tissu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Rectangle 13"/>
            <p:cNvSpPr/>
            <p:nvPr/>
          </p:nvSpPr>
          <p:spPr>
            <a:xfrm>
              <a:off x="5712120" y="3044160"/>
              <a:ext cx="2967840" cy="91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n all elements involved by these layer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Rectangle 14"/>
            <p:cNvSpPr/>
            <p:nvPr/>
          </p:nvSpPr>
          <p:spPr>
            <a:xfrm>
              <a:off x="457200" y="3956760"/>
              <a:ext cx="1901160" cy="262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imulator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2361600" y="3956760"/>
              <a:ext cx="1449000" cy="80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ep fric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3813840" y="3956760"/>
              <a:ext cx="1896120" cy="80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ll layers of the soft tissu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Rectangle 17"/>
            <p:cNvSpPr/>
            <p:nvPr/>
          </p:nvSpPr>
          <p:spPr>
            <a:xfrm>
              <a:off x="5712120" y="3956760"/>
              <a:ext cx="2967840" cy="80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n all elements within the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Rectangle 18"/>
            <p:cNvSpPr/>
            <p:nvPr/>
          </p:nvSpPr>
          <p:spPr>
            <a:xfrm>
              <a:off x="2361600" y="4761360"/>
              <a:ext cx="1449000" cy="91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trisag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Rectangle 19"/>
            <p:cNvSpPr/>
            <p:nvPr/>
          </p:nvSpPr>
          <p:spPr>
            <a:xfrm>
              <a:off x="3813840" y="4761360"/>
              <a:ext cx="1896120" cy="91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oft tissu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Rectangle 20"/>
            <p:cNvSpPr/>
            <p:nvPr/>
          </p:nvSpPr>
          <p:spPr>
            <a:xfrm>
              <a:off x="5712120" y="4761360"/>
              <a:ext cx="2967840" cy="91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rong influence on muscl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Rectangle 21"/>
            <p:cNvSpPr/>
            <p:nvPr/>
          </p:nvSpPr>
          <p:spPr>
            <a:xfrm>
              <a:off x="2361600" y="5675400"/>
              <a:ext cx="1449000" cy="91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apotmen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Rectangle 22"/>
            <p:cNvSpPr/>
            <p:nvPr/>
          </p:nvSpPr>
          <p:spPr>
            <a:xfrm>
              <a:off x="3813840" y="5675400"/>
              <a:ext cx="1896120" cy="91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oft tisu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Rectangle 23"/>
            <p:cNvSpPr/>
            <p:nvPr/>
          </p:nvSpPr>
          <p:spPr>
            <a:xfrm>
              <a:off x="5712120" y="5675400"/>
              <a:ext cx="2967840" cy="91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imulates muscles which react with mild contrac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Line 24"/>
            <p:cNvSpPr/>
            <p:nvPr/>
          </p:nvSpPr>
          <p:spPr>
            <a:xfrm>
              <a:off x="2361600" y="1600200"/>
              <a:ext cx="0" cy="4986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Line 25"/>
            <p:cNvSpPr/>
            <p:nvPr/>
          </p:nvSpPr>
          <p:spPr>
            <a:xfrm>
              <a:off x="3813840" y="1600200"/>
              <a:ext cx="0" cy="4986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Line 26"/>
            <p:cNvSpPr/>
            <p:nvPr/>
          </p:nvSpPr>
          <p:spPr>
            <a:xfrm>
              <a:off x="5712120" y="1600200"/>
              <a:ext cx="0" cy="4986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Line 27"/>
            <p:cNvSpPr/>
            <p:nvPr/>
          </p:nvSpPr>
          <p:spPr>
            <a:xfrm>
              <a:off x="457200" y="2404800"/>
              <a:ext cx="82231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Line 28"/>
            <p:cNvSpPr/>
            <p:nvPr/>
          </p:nvSpPr>
          <p:spPr>
            <a:xfrm>
              <a:off x="2361600" y="3044160"/>
              <a:ext cx="63183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29"/>
            <p:cNvSpPr/>
            <p:nvPr/>
          </p:nvSpPr>
          <p:spPr>
            <a:xfrm>
              <a:off x="457200" y="3956760"/>
              <a:ext cx="82231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30"/>
            <p:cNvSpPr/>
            <p:nvPr/>
          </p:nvSpPr>
          <p:spPr>
            <a:xfrm>
              <a:off x="2361600" y="4761360"/>
              <a:ext cx="63183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31"/>
            <p:cNvSpPr/>
            <p:nvPr/>
          </p:nvSpPr>
          <p:spPr>
            <a:xfrm>
              <a:off x="2361600" y="5675400"/>
              <a:ext cx="63183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32"/>
            <p:cNvSpPr/>
            <p:nvPr/>
          </p:nvSpPr>
          <p:spPr>
            <a:xfrm>
              <a:off x="457200" y="1600200"/>
              <a:ext cx="0" cy="4986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33"/>
            <p:cNvSpPr/>
            <p:nvPr/>
          </p:nvSpPr>
          <p:spPr>
            <a:xfrm>
              <a:off x="8683560" y="1600200"/>
              <a:ext cx="0" cy="4986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34"/>
            <p:cNvSpPr/>
            <p:nvPr/>
          </p:nvSpPr>
          <p:spPr>
            <a:xfrm>
              <a:off x="457200" y="1600200"/>
              <a:ext cx="82231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35"/>
            <p:cNvSpPr/>
            <p:nvPr/>
          </p:nvSpPr>
          <p:spPr>
            <a:xfrm>
              <a:off x="457200" y="6589800"/>
              <a:ext cx="82231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dic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For general mas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Reconvalesc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Fatig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Neurocirculatory dyston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For local mas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Posttraumatic condition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Rheumatic disease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Local swelling and edem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Cervical and lumbar syndrome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Flaccid and spastic paresis and paralysi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Introduction to kinesitherap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ntraindications for a mass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ebrile conditions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cute infective diseases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cute inflammatory processes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specially purul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leeding, bleeding tendency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ymphanigitis, thrombophlebitis, severe aneurysmal dilation of a vei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linant tumo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kin diseas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ephrolythiasis, choleolythiasi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457200" y="277920"/>
            <a:ext cx="822960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APPARATUS MASSAGE</a:t>
            </a:r>
            <a:br>
              <a:rPr sz="2600"/>
            </a:b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Apparatus- VIBRATION MASSAGE APPARATU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rcRect l="4208" t="3473" r="6312" b="44173"/>
          <a:stretch/>
        </p:blipFill>
        <p:spPr>
          <a:xfrm>
            <a:off x="457200" y="1371600"/>
            <a:ext cx="3817800" cy="3809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"/>
          <p:cNvPicPr/>
          <p:nvPr/>
        </p:nvPicPr>
        <p:blipFill>
          <a:blip r:embed="rId2"/>
          <a:srcRect l="0" t="59975" r="6179" b="0"/>
          <a:stretch/>
        </p:blipFill>
        <p:spPr>
          <a:xfrm>
            <a:off x="4343400" y="1371600"/>
            <a:ext cx="3673440" cy="38419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"/>
          <p:cNvSpPr/>
          <p:nvPr/>
        </p:nvSpPr>
        <p:spPr>
          <a:xfrm>
            <a:off x="228600" y="518148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of a pain threshold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analgesics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active hyperemi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 of cellular metabolism 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imination of the toxic degradable products of a pathological pro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457200" y="274680"/>
            <a:ext cx="5791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YDROMASS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457200" y="2408400"/>
            <a:ext cx="4800600" cy="41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how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Scotish shower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Charcot shower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earl wellness batht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nderwater mass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hirpool b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Object 3"/>
          <p:cNvGraphicFramePr/>
          <p:nvPr/>
        </p:nvGraphicFramePr>
        <p:xfrm>
          <a:off x="3962520" y="2130480"/>
          <a:ext cx="4697280" cy="328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2130480"/>
                    <a:ext cx="4697280" cy="32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9:38:32Z</dcterms:created>
  <dc:creator>Veljkovic Miodrag</dc:creator>
  <dc:description/>
  <dc:language>en-US</dc:language>
  <cp:lastModifiedBy>Nada Miklja</cp:lastModifiedBy>
  <dcterms:modified xsi:type="dcterms:W3CDTF">2023-09-26T08:05:36Z</dcterms:modified>
  <cp:revision>78</cp:revision>
  <dc:subject/>
  <dc:title>MEHANOTERAPIJA</dc:title>
</cp:coreProperties>
</file>